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C40-20AF-465A-8E0B-7EC5E280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1F9-B140-472A-A0F4-2B65F5BC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EC3-F71B-4A4B-9794-329D6896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4B6-C842-40DC-BB96-678DC30E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2CE-4B7A-4FE7-8CA3-D84A0C97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5BF-9BBD-4128-A15E-4C221D02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49B-3A06-42E9-A5D9-9DFF6385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D5E-BD4D-48CA-9BFE-AEBF9D7C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600-1E2B-4E52-B577-89AE0A5C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F1B-7B5B-4EA6-AC49-E990C80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4C4-9202-4B17-AB41-02CE7F24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249-5BB8-466A-AE45-5952917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E395BE-CF3A-465A-9147-8C64847E4307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75235D-8B0C-467B-8849-3CF49F3507F1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DD5926-E9B9-4893-9C6E-E1A02A68044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8724B2-C37C-4B44-BEC8-B6149599914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A7559D-A38B-4858-9FED-C99189BBF29A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8257EF-3C2E-4E93-8CD4-D8C54772A48D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C9E5A1-F09D-47DF-9E27-B7FEA846B0DA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9A1AE2-3E0A-4181-BC88-3FC9C86E0688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953B27-9D9E-42E0-8259-55E462D1AF7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727119-112D-461C-8037-8B3B1466F2E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EC5494-B2D2-4EBE-A0B4-4A18A6888854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CDF90D-27BB-40C9-97CE-EC61F95D4A0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EAE447-25BC-4056-A720-435B50367573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743576-3651-47F1-9BA8-D560359466C3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611280" y="2421000"/>
            <a:ext cx="7993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QUADRO DE REUNIÕES – C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2004 - 20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0" name=""/>
          <p:cNvGraphicFramePr/>
          <p:nvPr/>
        </p:nvGraphicFramePr>
        <p:xfrm>
          <a:off x="32400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1325520"/>
                <a:gridCol w="595080"/>
                <a:gridCol w="433440"/>
                <a:gridCol w="409680"/>
                <a:gridCol w="409680"/>
                <a:gridCol w="409320"/>
                <a:gridCol w="409680"/>
                <a:gridCol w="409680"/>
                <a:gridCol w="409320"/>
                <a:gridCol w="409680"/>
                <a:gridCol w="409680"/>
                <a:gridCol w="409680"/>
                <a:gridCol w="409320"/>
                <a:gridCol w="409680"/>
                <a:gridCol w="409680"/>
                <a:gridCol w="409320"/>
                <a:gridCol w="890640"/>
              </a:tblGrid>
              <a:tr h="3031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24000" y="1052640"/>
          <a:ext cx="8507160" cy="5545080"/>
        </p:xfrm>
        <a:graphic>
          <a:graphicData uri="http://schemas.openxmlformats.org/drawingml/2006/table">
            <a:tbl>
              <a:tblPr/>
              <a:tblGrid>
                <a:gridCol w="1315800"/>
                <a:gridCol w="590760"/>
                <a:gridCol w="4316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7880"/>
                <a:gridCol w="406440"/>
                <a:gridCol w="884160"/>
              </a:tblGrid>
              <a:tr h="3013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395280" y="1197000"/>
          <a:ext cx="8589960" cy="5327640"/>
        </p:xfrm>
        <a:graphic>
          <a:graphicData uri="http://schemas.openxmlformats.org/drawingml/2006/table">
            <a:tbl>
              <a:tblPr/>
              <a:tblGrid>
                <a:gridCol w="1328760"/>
                <a:gridCol w="596880"/>
                <a:gridCol w="434880"/>
                <a:gridCol w="409680"/>
                <a:gridCol w="411120"/>
                <a:gridCol w="411120"/>
                <a:gridCol w="409680"/>
                <a:gridCol w="411120"/>
                <a:gridCol w="409680"/>
                <a:gridCol w="411120"/>
                <a:gridCol w="409680"/>
                <a:gridCol w="411120"/>
                <a:gridCol w="411120"/>
                <a:gridCol w="409680"/>
                <a:gridCol w="411120"/>
                <a:gridCol w="409320"/>
                <a:gridCol w="893880"/>
              </a:tblGrid>
              <a:tr h="33804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135" descr="mps-cabecalho"/>
          <p:cNvPicPr/>
          <p:nvPr/>
        </p:nvPicPr>
        <p:blipFill>
          <a:blip r:embed="rId1"/>
          <a:stretch/>
        </p:blipFill>
        <p:spPr>
          <a:xfrm>
            <a:off x="644400" y="3087036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35" descr="mps-cabecalho"/>
          <p:cNvPicPr/>
          <p:nvPr/>
        </p:nvPicPr>
        <p:blipFill>
          <a:blip r:embed="rId2"/>
          <a:stretch/>
        </p:blipFill>
        <p:spPr>
          <a:xfrm>
            <a:off x="644400" y="31241880"/>
            <a:ext cx="1362240" cy="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135" descr="mps-cabecalho"/>
          <p:cNvPicPr/>
          <p:nvPr/>
        </p:nvPicPr>
        <p:blipFill>
          <a:blip r:embed="rId3"/>
          <a:stretch/>
        </p:blipFill>
        <p:spPr>
          <a:xfrm>
            <a:off x="709560" y="3121344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395280" y="1123920"/>
          <a:ext cx="8507520" cy="5329440"/>
        </p:xfrm>
        <a:graphic>
          <a:graphicData uri="http://schemas.openxmlformats.org/drawingml/2006/table">
            <a:tbl>
              <a:tblPr/>
              <a:tblGrid>
                <a:gridCol w="1316160"/>
                <a:gridCol w="590400"/>
                <a:gridCol w="43200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8240"/>
                <a:gridCol w="406440"/>
                <a:gridCol w="884160"/>
              </a:tblGrid>
              <a:tr h="3096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135" descr="mps-cabecalho"/>
          <p:cNvPicPr/>
          <p:nvPr/>
        </p:nvPicPr>
        <p:blipFill>
          <a:blip r:embed="rId1"/>
          <a:stretch/>
        </p:blipFill>
        <p:spPr>
          <a:xfrm>
            <a:off x="679320" y="31070520"/>
            <a:ext cx="136224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"/>
          <p:cNvGraphicFramePr/>
          <p:nvPr/>
        </p:nvGraphicFramePr>
        <p:xfrm>
          <a:off x="457200" y="1197000"/>
          <a:ext cx="8435880" cy="5111640"/>
        </p:xfrm>
        <a:graphic>
          <a:graphicData uri="http://schemas.openxmlformats.org/drawingml/2006/table">
            <a:tbl>
              <a:tblPr/>
              <a:tblGrid>
                <a:gridCol w="1305000"/>
                <a:gridCol w="585720"/>
                <a:gridCol w="426960"/>
                <a:gridCol w="403200"/>
                <a:gridCol w="403200"/>
                <a:gridCol w="403200"/>
                <a:gridCol w="403200"/>
                <a:gridCol w="4035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877680"/>
              </a:tblGrid>
              <a:tr h="5112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81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Conselhos que não foram reativados por falta de representantes da</a:t>
            </a:r>
            <a:r>
              <a:rPr b="0" lang="pt-BR" sz="3300" spc="-1" strike="noStrike">
                <a:solidFill>
                  <a:srgbClr val="0000ff"/>
                </a:solidFill>
                <a:latin typeface="Times New Roman"/>
              </a:rPr>
              <a:t> Sociedade Civil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lm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uarul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 algn="ctr"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ano de 2013 foi discutida no âmbito do CNP, com aprofundamento em grupo de trabalho, a proposta de 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nteprojeto de Lei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fim de alterar a Lei nº 8.213, de 24 de julho de 1991, para dispor sobre o Conselho Nacional de Previdência – CNP gerando uma maior representatividade às Centrais Sindicais e Confederaçõ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tualmente o retorno às discussões é amplamente pleiteado pelos representantes da UGT, CTB e CSB no Conselh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ítulo 1"/>
          <p:cNvSpPr/>
          <p:nvPr/>
        </p:nvSpPr>
        <p:spPr>
          <a:xfrm>
            <a:off x="457200" y="981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RECOMPOSIÇÃO DO CONSEL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3640" y="1052280"/>
            <a:ext cx="856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A partir da nova proposta, a representação do CNP terá 30 (trinta) membros titulares, send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 Governo Federal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a sociedade civil, se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aposentados e pension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trabalhadores em atividade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tes dos empreg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5-03-12T22:39:06Z</cp:lastPrinted>
  <dcterms:modified xsi:type="dcterms:W3CDTF">2016-11-17T22:25:51Z</dcterms:modified>
  <cp:revision>259</cp:revision>
  <dc:subject/>
  <dc:title>Slide 1</dc:title>
</cp:coreProperties>
</file>